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4B5-5D51-46F8-A6B7-B82C526D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7563-EAE4-4437-937D-85DD124C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6CF-22F5-4B69-97DD-27E2B4FB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BD1-57FA-4801-9823-3BD88D8D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661-DF4A-44D9-AF1A-77F65A7F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77E-42A8-41CB-B8AD-8434BC22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1C7-CC1F-490E-8F35-DEC802F2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D838-31E5-4F82-A06C-73270B12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E52-25EE-43E2-A462-0CAAC0C6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43D-5083-41EE-A469-17FBE9E6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69C-17BD-479B-987A-F409F8B0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80AE-C73D-4F1A-A7EE-ABA7D017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4501-BFE5-42D3-A41C-576879DA16E3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acultades de Verificación y Fiscalización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tención a Insp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902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95640" y="274680"/>
            <a:ext cx="43718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3498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61960" y="274680"/>
            <a:ext cx="62200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57240" y="274680"/>
            <a:ext cx="5864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800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0483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98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18:30:26Z</dcterms:created>
  <dc:creator>WinuE</dc:creator>
  <dc:description/>
  <dc:language>en-US</dc:language>
  <cp:lastModifiedBy>WinuE</cp:lastModifiedBy>
  <dcterms:modified xsi:type="dcterms:W3CDTF">2012-09-21T14:51:34Z</dcterms:modified>
  <cp:revision>2</cp:revision>
  <dc:subject/>
  <dc:title>Diapositiva 1</dc:title>
</cp:coreProperties>
</file>